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0.png" ContentType="image/png"/>
  <Override PartName="/ppt/media/applause.wav" ContentType="audio/x-wav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907-7AFD-4839-BB9D-2E12F539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77D-6EEC-4343-95C2-4DC4447F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E48-6F9A-45A3-8A76-7C5FC60C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167-1872-4D0E-85BC-D3F516B2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200F-86BF-42A2-9C27-3C5D9CBF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EADD-E57F-4CC7-9D77-AF41499D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3E4B-103D-4FFD-98FB-E4465D7A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86A9-5C48-4E21-8288-F4AF88A8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86E6-8268-472E-8ADA-7FA88200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BA50-5CE3-4C5C-919C-5A33A10A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EDF0-E87E-4E28-A1FA-025B96E1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BC1-1B2E-4992-9F2D-385F5C87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AF5A-2EC9-475A-B70D-3C99CEF9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1101-3CB3-4DD7-B81C-F418BBAD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B03A-E2A0-46A0-8E69-8E71BBBA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7A09-664C-4921-815A-4B1ED425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3F96-B8A4-4101-82FD-4AAD25A6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A688-1D88-47B0-8F38-760D56A4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9AC3-B663-4EFF-AECF-FE42DF11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D100-E8B1-470F-95EA-F2E3B924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8C33A-9CEE-4860-8EDD-690E1154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ADF70-C09E-4205-AD0F-F5DBE232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EF8-0EB3-4E23-B2B7-57039584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15B1-19C8-4F85-9D7D-0D13AC36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A949-E72B-4BB8-AA8A-AE109425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A4A5-D0C4-4429-B7F3-C74313A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7F3B-F44A-4B18-91E4-2FB1FD95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4EB4-FC5D-460E-AB2B-381ADD50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C76A-88F0-4B0F-A833-5AF242CB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5C6F6-B1D0-4FE1-A45E-53384723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B7AF-952F-4085-97B5-10D5D2A0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0905-990B-4A73-A1A6-041542D0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9EAF-71E8-4000-813C-B0FF7418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F46-6DE3-4AE9-B1B3-52A757DE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A2D25-2376-45A9-9668-EC45E6F4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6D354-73F6-4602-997D-E2B92CC6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9DDC4-F364-4A31-8D18-B9B78AA0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E5CD9-379A-45AD-A9C4-88DBEE1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82DD1-D186-49FD-B0B4-C77E8721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0C23D-980F-496E-8961-84555865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DD8C-C568-4BBD-A45B-02C50CFC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13551-CA10-47DE-9DC7-6D3C1E1D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A679-A278-4D67-9A3B-CD538D34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D1CE-606D-4951-BB47-05AAC521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B82-CB4E-4F74-AC3E-14914ABD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A2CDA-BC9B-410C-8421-691BD2B2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7BD2-2B51-4B7F-AD07-9CE888A9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B15A-9C60-4C6B-95F0-6E95BB09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2843D-0CF4-46B0-8B10-93B8981C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A29DA-5C16-4B60-A19E-03CDD40E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6662C-E166-436A-8556-64B6AEB5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A05BD-9ED6-43D5-86AC-48ED16A4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1A24A-A463-467F-9F10-DBE0B6B9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DEA06-00E0-41AC-B6FA-2B5BE833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869C1-4091-40A4-BF70-0EF7040B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910-9F6C-43FE-B030-991D7E45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C750B-082E-43E0-8AA8-841ED729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985F5-1623-4E02-9321-C1BCF3D7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757F1-A5CB-4227-96CB-F0DAA3D7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4399-BF4E-4886-B723-5D29962C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21B81-5DF4-4F42-8ACB-5960FA73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E84C0-5F40-488F-BF3E-81EFB20C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49C00-AC3E-4C01-B63A-C490B32B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7CBF7-0210-4A67-AC41-E0AA034A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AA31E-0CE9-4DFA-A083-3378322F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BB525-2855-474C-A1BD-04B38DB5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B3A-D1E7-48F0-9D55-0AD8B20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A0117-FAEE-4992-8475-A0657A5D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E21F7-E947-4CA6-966C-40D22C81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5981F-4C1E-4C06-B419-0E942AE9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24563-36DF-4622-8578-0E662592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38733-0753-4391-A6D9-BF0D3C8F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E5003-1887-45BA-981D-48B84EC6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389B0-C0CD-4C9F-819E-CBDFB357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6812-0152-4A53-9DB5-DDD07FE7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8DB82-1F1F-458C-9993-5A1E3C29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03B33-5231-4CCA-9F62-377A5536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F3B-EC57-4189-82E6-74AA0B4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6ED30-8934-466A-B847-A1054E6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715B7-8587-4585-877D-5ACBFEE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32EE6-15E1-40B3-8211-96AD3242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EF32E-25EA-428D-A2CD-F94FF474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949F5-35D3-4C43-A99C-868163DF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067D9-064B-4936-B487-0D01E978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36A81-F1D3-46A9-B3A5-0172B4B8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90CF1-30BB-4CE4-ABC2-72EDCD25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E44BF-1C64-4342-A267-7507E13D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2923A-B8C9-4F6D-AB47-61A2C5FD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24B-E14D-48E2-A166-758B2147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C7CF8-6C7D-44A4-AED7-14278652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EA2B8-CA28-44D7-A70E-FCE6CBB9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E9DEC-5F21-4D14-B9C2-63DB2543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65326-2054-484A-880E-33076E66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B8393-2F52-434D-9078-5507D906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D398E-A5D7-4A0E-A44F-0F879138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B1556-ADC7-40BC-AD0F-34314CFB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80B9-0260-41FC-A58E-674BBAA4C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D2CC-233C-4B07-97C2-4494C116FD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F93E-2C33-4463-BDAA-7E78C1723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61F7-DEA0-4813-9E34-EB4E783C41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D9D3-19B4-453C-933E-70CA45D92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B6BA-D3FD-4F5E-A88D-5E178487F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9DE1-2C81-47DB-B693-E8294C7D29D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D320-21F7-4C48-8E96-0164556A7A2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46" name="WordArt 8"/>
          <p:cNvSpPr txBox="1"/>
          <p:nvPr/>
        </p:nvSpPr>
        <p:spPr>
          <a:xfrm>
            <a:off x="457200" y="457200"/>
            <a:ext cx="8381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Short Stor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WordArt 12"/>
          <p:cNvSpPr txBox="1"/>
          <p:nvPr/>
        </p:nvSpPr>
        <p:spPr>
          <a:xfrm>
            <a:off x="1523880" y="312408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ve and Tim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5" descr=""/>
          <p:cNvPicPr/>
          <p:nvPr/>
        </p:nvPicPr>
        <p:blipFill>
          <a:blip r:embed="rId1"/>
          <a:stretch/>
        </p:blipFill>
        <p:spPr>
          <a:xfrm>
            <a:off x="-262080" y="-334800"/>
            <a:ext cx="9655200" cy="7589520"/>
          </a:xfrm>
          <a:prstGeom prst="rect">
            <a:avLst/>
          </a:prstGeom>
          <a:ln w="0">
            <a:noFill/>
          </a:ln>
        </p:spPr>
      </p:pic>
      <p:pic>
        <p:nvPicPr>
          <p:cNvPr id="372" name="57  frailty - urban.mp3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82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74" name="Content Placeholder 3" descr="thumbnailCALY0FQW.jpg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thumbnailCAO058FD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5"/>
          <p:cNvSpPr/>
          <p:nvPr/>
        </p:nvSpPr>
        <p:spPr>
          <a:xfrm>
            <a:off x="0" y="5533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Arial"/>
              </a:rPr>
              <a:t>Practice time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55   guillotine - urban.mp3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457200" cy="351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326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79" name="Content Placeholder 3" descr="thumbnailCANCURK5.jpg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thumbnailCAWGU27J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124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thumbnailCAD6HE2E.jpg"/>
          <p:cNvPicPr/>
          <p:nvPr/>
        </p:nvPicPr>
        <p:blipFill>
          <a:blip r:embed="rId3"/>
          <a:stretch/>
        </p:blipFill>
        <p:spPr>
          <a:xfrm>
            <a:off x="4419720" y="3124080"/>
            <a:ext cx="4724280" cy="373392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457200" y="274320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uring presentation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11 Whisper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2955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8800" spc="-1" strike="noStrike">
                <a:solidFill>
                  <a:srgbClr val="ffffff"/>
                </a:solidFill>
                <a:latin typeface="Adobe Ming Std L"/>
                <a:ea typeface="Adobe Ming Std L"/>
              </a:rPr>
              <a:t>THANK YOU 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7200" spc="-1" strike="noStrike">
                <a:solidFill>
                  <a:srgbClr val="ffffff"/>
                </a:solidFill>
                <a:latin typeface="Adobe Kaiti Std R"/>
                <a:ea typeface="Adobe Kaiti Std R"/>
              </a:rPr>
              <a:t>GOD BLESS!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5" name="Picture 3" descr="5dfcb5b089e3dc20.jpg"/>
          <p:cNvPicPr/>
          <p:nvPr/>
        </p:nvPicPr>
        <p:blipFill>
          <a:blip r:embed="rId1"/>
          <a:stretch/>
        </p:blipFill>
        <p:spPr>
          <a:xfrm>
            <a:off x="7162920" y="3733920"/>
            <a:ext cx="838080" cy="761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2" descr=""/>
          <p:cNvPicPr/>
          <p:nvPr/>
        </p:nvPicPr>
        <p:blipFill>
          <a:blip r:embed="rId2"/>
          <a:stretch/>
        </p:blipFill>
        <p:spPr>
          <a:xfrm>
            <a:off x="433440" y="85680"/>
            <a:ext cx="8618400" cy="1584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5638320" y="15998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Lov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Richnes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Vanit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Sadnes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Happines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Knowledg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Time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7617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2" name="Picture 5" descr="love-wallpaper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TextBox 3"/>
          <p:cNvSpPr/>
          <p:nvPr/>
        </p:nvSpPr>
        <p:spPr>
          <a:xfrm>
            <a:off x="990720" y="5715000"/>
            <a:ext cx="754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e one who needs help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8" descr="money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2" descr=""/>
          <p:cNvPicPr/>
          <p:nvPr/>
        </p:nvPicPr>
        <p:blipFill>
          <a:blip r:embed="rId2"/>
          <a:stretch/>
        </p:blipFill>
        <p:spPr>
          <a:xfrm>
            <a:off x="328680" y="-73080"/>
            <a:ext cx="8364600" cy="1743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b050"/>
                </a:solidFill>
                <a:latin typeface="Century Gothic"/>
              </a:rPr>
              <a:t>Doesn’t need Love because they are happy with their mone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6" descr="thumbnailCA2COU4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Rectangle 2" descr=""/>
          <p:cNvPicPr/>
          <p:nvPr/>
        </p:nvPicPr>
        <p:blipFill>
          <a:blip r:embed="rId2"/>
          <a:stretch/>
        </p:blipFill>
        <p:spPr>
          <a:xfrm>
            <a:off x="-171360" y="-665280"/>
            <a:ext cx="8638920" cy="29577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Century Gothic"/>
              </a:rPr>
              <a:t>Doesn’t need Love because of their emptiness they hated Lov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thumbnailCAJAIDV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2" descr=""/>
          <p:cNvPicPr/>
          <p:nvPr/>
        </p:nvPicPr>
        <p:blipFill>
          <a:blip r:embed="rId2"/>
          <a:stretch/>
        </p:blipFill>
        <p:spPr>
          <a:xfrm>
            <a:off x="371520" y="-12600"/>
            <a:ext cx="8321760" cy="16826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esn’t need Love because   they want to be alon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5" descr="thumbnailCAP7BEH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Rectangle 2" descr=""/>
          <p:cNvPicPr/>
          <p:nvPr/>
        </p:nvPicPr>
        <p:blipFill>
          <a:blip r:embed="rId2"/>
          <a:stretch/>
        </p:blipFill>
        <p:spPr>
          <a:xfrm>
            <a:off x="-208080" y="-225360"/>
            <a:ext cx="9358560" cy="2097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y forget about Love because they are full of Happines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thumbnailCASAXCB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Rectangle 2" descr=""/>
          <p:cNvPicPr/>
          <p:nvPr/>
        </p:nvPicPr>
        <p:blipFill>
          <a:blip r:embed="rId2"/>
          <a:stretch/>
        </p:blipFill>
        <p:spPr>
          <a:xfrm>
            <a:off x="311040" y="-103320"/>
            <a:ext cx="8382240" cy="17733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The one who knows the value of Love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shdhs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entury Gothic"/>
              </a:rPr>
              <a:t>The one w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entury Gothic"/>
              </a:rPr>
              <a:t>understands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entury Gothic"/>
              </a:rPr>
              <a:t>Lov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9:51:26Z</dcterms:created>
  <dc:creator>nave1386</dc:creator>
  <dc:description/>
  <dc:language>en-US</dc:language>
  <cp:lastModifiedBy>nave1386</cp:lastModifiedBy>
  <dcterms:modified xsi:type="dcterms:W3CDTF">2010-09-23T19:30:35Z</dcterms:modified>
  <cp:revision>20</cp:revision>
  <dc:subject/>
  <dc:title>Slide 1</dc:title>
</cp:coreProperties>
</file>